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636-54B7-4455-BCBF-86A67CA5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E62-E2C5-4501-9E8F-BC996BC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8A2-6D72-41A5-B61D-FA0A9D42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B11-90FE-4CA1-B637-8B6A4579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F3E-858C-427D-BA8F-0D22B59C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9CF-4D19-4495-9040-BD6FB782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BB3-45CD-41E0-B002-24EA1E6B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871-5448-4510-B5B5-92390602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039-8AB6-47E4-BEBC-D69F386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3A8-0E12-4534-B01A-C765AAB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1D5-B815-4219-9FB1-B1D2269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593-63F3-4A17-8BC9-0C14795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B6EA-412F-48E0-AA7E-9AB792D298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22:At the Super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47640" y="907920"/>
            <a:ext cx="5688360" cy="16574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ny,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on’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se that ba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have our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hopping ba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4149720"/>
            <a:ext cx="2232000" cy="1079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56000" y="1773360"/>
            <a:ext cx="3960720" cy="1511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are good ki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1403280" y="1925640"/>
            <a:ext cx="68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like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don’t like 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4214880"/>
            <a:ext cx="6022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mato</a:t>
            </a: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u=2139958184,2471990458&amp;fm=23&amp;gp=0"/>
          <p:cNvPicPr/>
          <p:nvPr/>
        </p:nvPicPr>
        <p:blipFill>
          <a:blip r:embed="rId1"/>
          <a:srcRect l="0" t="0" r="0" b="6978"/>
          <a:stretch/>
        </p:blipFill>
        <p:spPr>
          <a:xfrm>
            <a:off x="2556000" y="907920"/>
            <a:ext cx="3959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u=1390787665,3781818723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92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otato</a:t>
            </a: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u=1001017827,2113361751&amp;fm=23&amp;gp=0"/>
          <p:cNvPicPr/>
          <p:nvPr/>
        </p:nvPicPr>
        <p:blipFill>
          <a:blip r:embed="rId2"/>
          <a:stretch/>
        </p:blipFill>
        <p:spPr>
          <a:xfrm>
            <a:off x="2700360" y="83664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8920" y="4437000"/>
            <a:ext cx="31683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u=3912799146,3407142262&amp;fm=59"/>
          <p:cNvPicPr/>
          <p:nvPr/>
        </p:nvPicPr>
        <p:blipFill>
          <a:blip r:embed="rId1"/>
          <a:stretch/>
        </p:blipFill>
        <p:spPr>
          <a:xfrm>
            <a:off x="2556000" y="1125360"/>
            <a:ext cx="4392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4680" y="4357800"/>
            <a:ext cx="30715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 flipH="1">
            <a:off x="6071400" y="1214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6000840" y="1785960"/>
            <a:ext cx="2201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u=1343392952,218308935&amp;fm=23&amp;gp=0"/>
          <p:cNvPicPr/>
          <p:nvPr/>
        </p:nvPicPr>
        <p:blipFill>
          <a:blip r:embed="rId1"/>
          <a:stretch/>
        </p:blipFill>
        <p:spPr>
          <a:xfrm>
            <a:off x="1619280" y="148428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268280"/>
            <a:ext cx="3600360" cy="1584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, kids!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Let’s buy some vegetables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3860640"/>
            <a:ext cx="2376360" cy="1152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292640"/>
            <a:ext cx="1511280" cy="865080"/>
          </a:xfrm>
          <a:prstGeom prst="wedgeEllipseCallout">
            <a:avLst>
              <a:gd name="adj1" fmla="val -34245"/>
              <a:gd name="adj2" fmla="val 7843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3280" y="1413000"/>
            <a:ext cx="3240000" cy="1152360"/>
          </a:xfrm>
          <a:prstGeom prst="wedgeRoundRectCallout">
            <a:avLst>
              <a:gd name="adj1" fmla="val -44171"/>
              <a:gd name="adj2" fmla="val 54958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omat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213000"/>
            <a:ext cx="3528720" cy="1295640"/>
          </a:xfrm>
          <a:prstGeom prst="wedgeEllipseCallout">
            <a:avLst>
              <a:gd name="adj1" fmla="val -43884"/>
              <a:gd name="adj2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32000" y="836640"/>
            <a:ext cx="4176720" cy="1297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s. Smith, I like candy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284640"/>
            <a:ext cx="4968720" cy="1439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ny, candy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sn’t good 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r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1197000"/>
            <a:ext cx="3311640" cy="115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ow ab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me fr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2924280"/>
            <a:ext cx="2089440" cy="1225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03:26Z</dcterms:created>
  <dc:creator/>
  <dc:description/>
  <dc:language>en-US</dc:language>
  <cp:lastModifiedBy/>
  <dcterms:modified xsi:type="dcterms:W3CDTF">2018-08-18T03:24:43Z</dcterms:modified>
  <cp:revision>44</cp:revision>
  <dc:subject/>
  <dc:title/>
</cp:coreProperties>
</file>